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6B0-D7A7-42BF-B2ED-5186257D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B9A-B47E-4B92-B23D-6951A836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26F-8A52-400F-B48A-5FE53CEC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86F-E386-4C2C-B31A-E79DBEA5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8FA-E5B9-47A2-B59E-E5B79BED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0DB6-E6B3-43DE-8E2F-FB004EE6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149A-E1CE-4B6F-A3CF-A7592F8A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424C-7BD9-4870-B578-C2E65CB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27FC-F714-43D9-897E-B9981E6F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C6C1-46B4-4E3B-AD97-248E9E42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89B0-ECD9-4638-B2B6-2804150B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004-FEC3-4A57-8452-735775FB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3576-5D08-4CB8-AA5F-9D7D2EAB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FEFF-66FE-4425-B993-98527482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1058-2069-40FA-B2EA-8B390D06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C689-7B8A-48DE-B812-FBF7069C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A716-2D08-4BBA-9E6A-B8CB66D4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44C-3664-4A8C-80C0-70041BD0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A72-50D3-4F49-8405-AF6C6EDC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BB5-8BA1-45BE-AC87-0D176CF3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A21-8269-4133-A099-CB86603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1D8-0343-4471-B598-6EFCF93B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3CF-A642-440D-A000-AF90816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FB3-4767-4DEA-97C0-F0C3D87B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5E24-376C-4CDF-87CB-21B31CD2D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6578-9267-4660-B1BE-5D8C78010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8560" y="1752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286000" y="1752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33920" y="1752480"/>
            <a:ext cx="18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388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09080" y="3200400"/>
            <a:ext cx="529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oose the correct spell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convenei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conveni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 cunveni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) conveni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527120" y="3200400"/>
            <a:ext cx="30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) convenie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66280" y="2895480"/>
            <a:ext cx="59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numbers are hyphen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93240" y="3168720"/>
            <a:ext cx="60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twenty-one to ninety-n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457200" y="3352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unctuation mark do you use before a l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30960" y="33526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533520" y="3276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unctuation mark is used between biblical chapters and vers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91440" y="31687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447920" y="304812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4 examples of titles that you put in quotation mark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89280" y="316872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of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stories, poems, articles, songs, one-act plays, chapters, and essa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892880" y="3168720"/>
            <a:ext cx="34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a lot or alo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86640" y="3200400"/>
            <a:ext cx="83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5 examples of titles that you under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985680" y="2666880"/>
            <a:ext cx="747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five of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azines, TV shows, airplanes, plays of two or more ac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s, albums or CDs, ships, oper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spapers, pamphlets, painting, book-length po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,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460440" y="312408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uld you use irregardless or regardle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1440" y="31687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533520" y="2971800"/>
            <a:ext cx="8229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ervous about giving his speech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words can replace very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3240" y="316872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ly or extremely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685800" y="27432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Dad will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(loan / lend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e the money, I will repay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(loan / lend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n Saturda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1800" y="316872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nd, lo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914400" y="2971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(Freshman / Freshme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 has thirty freshme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1080" y="316872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hm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91080" y="3168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066680" y="2819520"/>
            <a:ext cx="56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ttitude, Sam is different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(than / from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is sibling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1080" y="3168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4320" y="316872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efinition of hang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3240" y="316872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life is ta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893960" y="3168720"/>
            <a:ext cx="68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efinition of personnel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1800" y="316872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894320" y="3168720"/>
            <a:ext cx="65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efinition of persona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91800" y="316872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451160" y="3124080"/>
            <a:ext cx="548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word for a sin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male gradu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1800" y="316872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895040" y="3168720"/>
            <a:ext cx="67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female pet is altered, she i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pa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 sp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146600" y="2895480"/>
            <a:ext cx="694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word for the school 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a person graduates o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hool so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2880" y="316872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ma m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300680" y="2819520"/>
            <a:ext cx="698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for spel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mete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2880" y="316872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s as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ec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371600" y="2438280"/>
            <a:ext cx="588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unctuation mark can be used to  emphasize, to indicate an abrupt change of thought, and to achieve a special effec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91080" y="316872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dash (--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299960" y="1905120"/>
            <a:ext cx="5089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sentence is correc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Nicol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Nicole 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2520" y="316872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Nico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533520" y="3352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underline/italicize words, letters, signs and nu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3240" y="31687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you refer to their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91080" y="3168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071360" y="2819520"/>
            <a:ext cx="629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symb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1440" y="316872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pers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240" y="2438280"/>
            <a:ext cx="81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Vitamins did we take this year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MC900089806[1]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05520" y="2766960"/>
            <a:ext cx="473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y too many!!!!!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900439804[1]"/>
          <p:cNvPicPr/>
          <p:nvPr/>
        </p:nvPicPr>
        <p:blipFill>
          <a:blip r:embed="rId2"/>
          <a:stretch/>
        </p:blipFill>
        <p:spPr>
          <a:xfrm>
            <a:off x="1828800" y="3429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2040480" y="48420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itamin 68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9" descr="MC910216309[1]"/>
          <p:cNvPicPr/>
          <p:nvPr/>
        </p:nvPicPr>
        <p:blipFill>
          <a:blip r:embed="rId3"/>
          <a:stretch/>
        </p:blipFill>
        <p:spPr>
          <a:xfrm>
            <a:off x="6095880" y="2971800"/>
            <a:ext cx="1060560" cy="444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"/>
          <p:cNvSpPr/>
          <p:nvPr/>
        </p:nvSpPr>
        <p:spPr>
          <a:xfrm>
            <a:off x="7298640" y="2936880"/>
            <a:ext cx="19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min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itamin 12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5089320" y="4917960"/>
            <a:ext cx="17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528200" y="2819520"/>
            <a:ext cx="529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oose the correct spell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pr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per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prescripsh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2160" y="316872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prescri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89280" y="3317760"/>
            <a:ext cx="67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the correct spell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supr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surpr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sur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) supr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1080" y="316872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 surpri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enni</cp:lastModifiedBy>
  <dcterms:modified xsi:type="dcterms:W3CDTF">2010-05-19T00:52:30Z</dcterms:modified>
  <cp:revision>40</cp:revision>
  <dc:subject/>
  <dc:title>Jeopardy</dc:title>
</cp:coreProperties>
</file>